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3A2-9FA8-47A1-8EF8-FFE43E95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5FA-E0AF-4D0D-9C70-D48EB5BF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2A1-5EB6-4A25-8B8C-6AADBBCE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9D6-6265-49D1-8263-1BC7F131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7BAB-658E-4A86-B395-ACDA371E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D16-65EC-4AF7-96CF-2141B3CB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006-C88E-40C1-995A-8FEC7D12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A74-97FE-4234-94BB-B77781BA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FC85-1A30-4151-A438-DCF30D51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FF4-6F95-4B72-AFA2-22626842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ABF6-3965-46C4-ADE2-9463EE44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68B-B5A3-4AA8-A2C8-5243C066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B9DA-6B3B-4D9C-BB94-55129CEA3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adiumxtras.com/images/pictures/chuck_norris_random_fact_generator_6_3957_2224_image_2578.jpg"/>
          <p:cNvPicPr/>
          <p:nvPr/>
        </p:nvPicPr>
        <p:blipFill>
          <a:blip r:embed="rId1"/>
          <a:stretch/>
        </p:blipFill>
        <p:spPr>
          <a:xfrm>
            <a:off x="990720" y="0"/>
            <a:ext cx="6933960" cy="693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i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s 3, 4,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msp193.photobucket.com/albums/z80/_Green_WeeD_/chuck-norris.jpg"/>
          <p:cNvPicPr/>
          <p:nvPr/>
        </p:nvPicPr>
        <p:blipFill>
          <a:blip r:embed="rId1"/>
          <a:stretch/>
        </p:blipFill>
        <p:spPr>
          <a:xfrm>
            <a:off x="0" y="0"/>
            <a:ext cx="9083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US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argest in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ich country- technology, resources, and weal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ivate Enterprise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ighly privatized econ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ighly marketized econ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popfi.com/wp-content/uploads/8de6c_chuck-norris-evolu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Chapter 3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Relatively closed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We export and import a small share of G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 growing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The growth has been irregu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We do experience recessions ( falling GDP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lternates from good and bad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g238.imageshack.us/img238/8484/pwneddp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pter 3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les of the 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fe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usiness regul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ax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p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distributor of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onereasonwhy.com/images/Chuck-Norris-scares-the-Boogeym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Opportunity cost-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benefit in a choice foregone in a trade-of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roduction Possibility frontier-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flects all the possible combinations of products a company can produce will full resources utiliz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170.photobucket.com/albums/u272/nateisstrait58/chuck%20norris/chuck_norris-1.jpg"/>
          <p:cNvPicPr/>
          <p:nvPr/>
        </p:nvPicPr>
        <p:blipFill>
          <a:blip r:embed="rId1"/>
          <a:stretch/>
        </p:blipFill>
        <p:spPr>
          <a:xfrm>
            <a:off x="1676520" y="0"/>
            <a:ext cx="59529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pter 4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carcity of economic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onsumption goods-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ood purchased by the consumer that is to be used to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apital Goods-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oods used for future consu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creasing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pecialization ( caveman sto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gavetafilmes.com.br/chucknorrislevandomuitaporrada/chuck_norris_03.jpg"/>
          <p:cNvPicPr/>
          <p:nvPr/>
        </p:nvPicPr>
        <p:blipFill>
          <a:blip r:embed="rId1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emand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- desire, ability and willingness to purchase a produ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emand schedule-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isting of all amounts that would be purchased at all price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Law of Demand-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rice increase, QD decreases. Inverse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nge in quantity demand is cause by pr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nge in demand caused by population, consumer income, and tastes of consum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img524.imageshack.us/img524/4936/chuckma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hapter 5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upply-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producing and selling a product at all possible pr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Law of supply-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llers will sell more at a higher price then lo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hange in quantity supply is caused by change in pr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eterminates of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umber of sellers and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tbn3.google.com/images?q=tbn:PHN7k1xjif6TfM:http://www.aridiwrites.com/ChuckNorrisApproved.png"/>
          <p:cNvPicPr/>
          <p:nvPr/>
        </p:nvPicPr>
        <p:blipFill>
          <a:blip r:embed="rId1"/>
          <a:stretch/>
        </p:blipFill>
        <p:spPr>
          <a:xfrm>
            <a:off x="1295280" y="38088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2:37:37Z</dcterms:created>
  <dc:creator>Gordon.I047</dc:creator>
  <dc:description/>
  <dc:language>en-US</dc:language>
  <cp:lastModifiedBy>HP Authorized Customer</cp:lastModifiedBy>
  <dcterms:modified xsi:type="dcterms:W3CDTF">2009-01-27T21:45:18Z</dcterms:modified>
  <cp:revision>6</cp:revision>
  <dc:subject/>
  <dc:title>Unit 1</dc:title>
</cp:coreProperties>
</file>